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292-DDDC-46A2-9BE7-EDE52A35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14D-8505-4C48-99E0-9345ED14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37013-10A3-4A1B-B406-07EB838C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9B1E8-BCD4-44C1-B1FA-BB08CC90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E0B89-0832-47D2-B172-A0BEEB65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20140-C112-42DD-9F22-FB41ADA8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F0947-2215-47C7-92DE-F61CDCE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11A34-E9C8-4340-B27F-41D2670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09966-927B-4681-8862-A9B925F1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79254-22FE-49B9-8A00-CAF90EBC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3FB08-B94A-4D85-8296-434EADBF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4B925-43EF-4861-B7CB-8939CBEC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601-6388-403A-86B2-30CE795B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59918-2B19-4EA2-A5BA-0160357C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91586-7D6D-4FEA-8868-4F4287D6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94CF4-ADD5-4F28-9791-8FDE610F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44CEE-6CC7-43BD-AE92-3B6C6FDD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D2E0F-5914-4FBF-8F33-E99E9CC0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F726B-5BD5-4A66-A2D8-A3BBB0D1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94B20-C66C-473C-A3A7-13D5516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3BC25-8E4A-4B68-824B-6757AAFF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DB52C-D382-461A-BABF-ECF2B955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60431-32BC-4D2E-AC38-3704D920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144-E83F-4AE3-A64E-EBA57499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0E3B1-71D7-4937-9840-C4DAFE8F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A2294-70A7-4798-BE7C-4D8CF958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4626B-C4DB-4DA8-B516-25438C81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FB293-850D-433C-B8E0-2668B095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31866-897A-46F9-BC55-9C54430A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3CDCB-8120-43C9-B7A1-56E4A7D6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F7EA3-4D16-4994-A289-2ADF3693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389BF-5CD6-42BC-BC14-7B747D42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772D9-844D-4C6F-9874-161BDCCC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19387-3C7C-4C45-A223-C88B6A16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82C1-B3B4-48D6-A500-46832BDE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C83A4-31A1-4163-A02E-AFA3FA4F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AA436-80E2-47DE-8666-C1E9CEFB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058C1-619E-45BD-9876-0F32CCA8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0B9A8-104D-43DB-B850-9C8B67B0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F9614-A53A-4B42-A3DF-270291BA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7FC4A-2F1A-42CD-8139-DC2960BB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0D269-2A81-46C5-B3BE-E2ECF4E1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195EE-3A60-4710-84A7-F39CB221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91E34-8A04-473E-8FFC-C02049F9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9D1B0-F648-4E3D-BFBA-931E94C4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4653-0230-425B-84E1-329C2196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A3BB5-B433-4F53-9991-AC4CD08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C7AB0-798C-474C-B7F9-C1AA86DA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9B004-2AC2-4A42-9010-8497D84A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713A6-39F6-42B3-95BD-903DE9D8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69984-75E8-4907-A4DE-B2EC08FA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2800-B8CB-467F-BB61-1259170E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9E3F-D431-4EF2-B584-FC914CFA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C3E5-739A-4A3E-A56D-18611DA3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EB03-5F99-4EA7-ADEB-8CB73286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67C8-CD0C-436E-A1B1-848A1FD9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2C3-3B84-4AEB-9A03-206B95E3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3006-91D9-47D8-91BE-8C052058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8016-1B9E-46D1-B52C-67785B1A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B95E-8413-4824-BE9C-5C0DEF3F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8EC9-0A10-4756-88D3-AD3F202D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0D8C-1410-44A2-93E5-2CB39DB3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FEE5A-A2F0-4C84-B3EF-A2F2EBA8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6A32-6616-4CC5-9C05-87A909D0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F654-50D1-43FC-B63D-6CC17A53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B1D5C-E871-43F2-9033-B29F3415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28E9-724D-4157-87C4-C086CC65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BF4-B455-4FF2-BACE-7E1A3AE6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B90B-4733-4077-A735-E198F84E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3C27-14B8-4E9B-BEEA-4625CCE5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8D70-708A-49FD-93CC-25886E1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8E95-74D3-4203-B8F9-CF44865B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1D5E-02F0-458E-9A6E-60E51B35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8A89-3B16-4C7B-85EB-BE4D5AEE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6921-414B-4944-B799-0FB25127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965F-7CD9-4F3E-8032-17F628FD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90FF-4759-4B2D-909B-0DB9AF55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3555-AEC3-4274-89B2-76A63025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35F-1126-495D-9E8C-ADB87B6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7FED8-9CF0-4EBC-A4F7-42373350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74DFF-AF90-4004-85D2-13E1D7A3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86EE4-0723-468B-80CF-7F509103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5A84-A40F-4C61-B52E-6156D7BF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CDD8-8017-4CD4-9BD4-AD610DA8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1FB5-4279-4D1F-A8C3-09A89CD3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D9A5D-2236-4795-AAC0-77A666A0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1152-18F7-4C76-A182-0C03D8CB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E1D33-3117-42E0-BEEE-D2F3995A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C12EB-7DA8-411F-B6B4-A10D1AC4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891-FAAE-43B0-B8DE-28EA1DF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5B208-22D5-4B1F-9409-6E3634FC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90E82-D810-4DEF-ACCC-72FB5EB9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53B6E-F298-420B-860F-AF0D10BE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8EC4-1871-46D3-8334-AB045465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C2AD8-A4D4-463F-9FF3-4AAEB556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0F703-B533-482B-8996-D35C545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079F3-2315-4B1F-BB19-7319EBDF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825D-1262-4B03-B5C9-CA2EF032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3250-81A1-4328-9017-96EFE521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0B94F-DA10-4744-9487-904C5F96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FE6-C374-4E4D-A848-E4E80689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C9999-9FB7-4BAC-B685-039E2702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F9F33-44CC-4596-94CC-F93CF995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BAE5B-F363-40CC-A8C6-8991EAC6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1EA9F-E19A-43F1-AAF6-F76BCE74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13959-2B57-4EFF-9FF8-AC05E6C9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AF77-19A5-4360-A26E-E29E855B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4A640-B5CF-4B77-AD27-FC333207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580B2-C9E4-4DB5-B561-FDD75BD9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67046-1362-48A4-B5CC-DA3E9AE1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6BA1F-88FF-4020-B956-884BCF81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8DE-96D8-4C40-8AEF-B033229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60E18-87FF-4717-9645-DCC50EFD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3C25-2C24-4331-BED9-47789D3F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948F5-32F5-49BB-B3E6-6676358A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F53BF-265B-4544-8851-D77D0BCC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3C6FE-8FE4-4CB1-A75E-B2DB4D93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03514-81E4-43F3-902B-A49CFF28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704D1-6442-4B5B-888C-DFDA9523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5B1B2-BCC3-48FC-A86A-04E6E083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88CEF-1E85-4E39-BACE-9BBA1717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229F-3758-4BF5-B67F-54109E0D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F7F-FD74-4796-B663-7070B097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CDB70-0366-4A90-B1E9-9545C388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ECD89-1340-409F-A4D9-36E325EE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0449C-E25C-4BE2-AEB2-FA4F97D9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FC0DA-9CA4-4773-9FF6-E3F361A1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898B1-B760-4E58-9168-8C2ACD30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669F2-3EE5-4D89-A453-DBDD2980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0AB0B-D59B-4D18-99CA-154103DF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575EB-E300-486C-8FC5-7C194C2F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0D13E-3299-4E5B-B3B3-091A1380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AF705-095A-4A02-A5A5-3E134952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AF7-C145-46DB-B08C-EAE3E6CD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BCC4B-1BC0-4B41-A10B-E2A2966E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4C0BF-C4E7-4AE0-8BD7-BCDC1A6B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8C8E4-237B-4360-867A-B9FEF4DD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2EC13-4199-43FD-9CDD-9390237F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7E550-5DAF-413F-83FC-1728397D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2D81B-27BC-4F65-96BE-7F14A218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68054-4108-43AC-BA3B-146A4D44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FE4A1-B552-4340-86F4-4AC89373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D0A9F-07DE-44B4-B94B-24EB90D1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1E908-4D45-4815-B939-4F9A8787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76DD-D3E4-40FC-AECE-DBF766A7042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A9AC-448D-4573-8825-A1CDC342AB3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D33C-0DBC-49E1-A036-0435C088F0E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E3B8-87A8-4A61-9EF9-6D8341D3956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198B-9CAE-4356-A1FE-39F482B9032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88E6-1D1F-4E54-8194-28E0F43DF96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7918-2FDA-4AA7-8EAE-1149BD63746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A096-AC7C-446C-9967-A80DA6154CB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736F-1CF0-4B1F-AB70-7FDC26DA808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76A2-9D3A-456F-9C2A-D1C2621BBAF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0A70-B35C-405C-89F9-8A0249611FE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E7D8-D719-4CDB-AB04-B0E5AA42CFE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Sastavljanje s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sila vektorska velič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je grafički predočuje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se događa kad na tijelo istodobno djeluje više si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2962440" cy="27241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2863800" cy="3808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potezanje konopa"/>
          <p:cNvPicPr/>
          <p:nvPr/>
        </p:nvPicPr>
        <p:blipFill>
          <a:blip r:embed="rId3"/>
          <a:stretch/>
        </p:blipFill>
        <p:spPr>
          <a:xfrm>
            <a:off x="914400" y="3344760"/>
            <a:ext cx="33526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1760" y="763560"/>
            <a:ext cx="6429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hr-HR" sz="3200" spc="-1" strike="noStrike">
                <a:solidFill>
                  <a:srgbClr val="17375e"/>
                </a:solidFill>
                <a:latin typeface="Arial"/>
                <a:ea typeface="Arial"/>
              </a:rPr>
              <a:t>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0" name="Group 16"/>
          <p:cNvGrpSpPr/>
          <p:nvPr/>
        </p:nvGrpSpPr>
        <p:grpSpPr>
          <a:xfrm>
            <a:off x="1357200" y="1549440"/>
            <a:ext cx="2357640" cy="952560"/>
            <a:chOff x="1357200" y="1549440"/>
            <a:chExt cx="2357640" cy="952560"/>
          </a:xfrm>
        </p:grpSpPr>
        <p:grpSp>
          <p:nvGrpSpPr>
            <p:cNvPr id="511" name="Group 15"/>
            <p:cNvGrpSpPr/>
            <p:nvPr/>
          </p:nvGrpSpPr>
          <p:grpSpPr>
            <a:xfrm>
              <a:off x="1357200" y="2500200"/>
              <a:ext cx="2357640" cy="1800"/>
              <a:chOff x="1357200" y="2500200"/>
              <a:chExt cx="2357640" cy="1800"/>
            </a:xfrm>
          </p:grpSpPr>
          <p:sp>
            <p:nvSpPr>
              <p:cNvPr id="512" name="Straight Connector 4"/>
              <p:cNvSpPr/>
              <p:nvPr/>
            </p:nvSpPr>
            <p:spPr>
              <a:xfrm>
                <a:off x="1357200" y="2500560"/>
                <a:ext cx="2357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3" name="Straight Arrow Connector 6"/>
              <p:cNvCxnSpPr/>
              <p:nvPr/>
            </p:nvCxnSpPr>
            <p:spPr>
              <a:xfrm flipH="1" flipV="1">
                <a:off x="1571400" y="2500200"/>
                <a:ext cx="64332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14" name="Straight Arrow Connector 7"/>
              <p:cNvCxnSpPr/>
              <p:nvPr/>
            </p:nvCxnSpPr>
            <p:spPr>
              <a:xfrm flipH="1" flipV="1">
                <a:off x="2714760" y="2500200"/>
                <a:ext cx="64332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mc:AlternateContent>
          <mc:Choice xmlns:a14="http://schemas.microsoft.com/office/drawing/2010/main" Requires="a14">
            <p:sp>
              <p:nvSpPr>
                <p:cNvPr id="515" name="Object 4"/>
                <p:cNvSpPr txBox="1"/>
                <p:nvPr/>
              </p:nvSpPr>
              <p:spPr>
                <a:xfrm>
                  <a:off x="1714320" y="1549440"/>
                  <a:ext cx="57132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F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6" name="Object 5"/>
                <p:cNvSpPr txBox="1"/>
                <p:nvPr/>
              </p:nvSpPr>
              <p:spPr>
                <a:xfrm>
                  <a:off x="2840040" y="1571400"/>
                  <a:ext cx="60624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F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7" name="TextBox 16"/>
          <p:cNvSpPr/>
          <p:nvPr/>
        </p:nvSpPr>
        <p:spPr>
          <a:xfrm>
            <a:off x="785880" y="27860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e jednakog pravca djelovanja i istog usmjer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7"/>
          <p:cNvGrpSpPr/>
          <p:nvPr/>
        </p:nvGrpSpPr>
        <p:grpSpPr>
          <a:xfrm>
            <a:off x="1285920" y="3500280"/>
            <a:ext cx="2357280" cy="787680"/>
            <a:chOff x="1285920" y="3500280"/>
            <a:chExt cx="2357280" cy="787680"/>
          </a:xfrm>
        </p:grpSpPr>
        <p:grpSp>
          <p:nvGrpSpPr>
            <p:cNvPr id="519" name="Group 24"/>
            <p:cNvGrpSpPr/>
            <p:nvPr/>
          </p:nvGrpSpPr>
          <p:grpSpPr>
            <a:xfrm>
              <a:off x="1285920" y="4286160"/>
              <a:ext cx="2357280" cy="1800"/>
              <a:chOff x="1285920" y="4286160"/>
              <a:chExt cx="2357280" cy="1800"/>
            </a:xfrm>
          </p:grpSpPr>
          <p:sp>
            <p:nvSpPr>
              <p:cNvPr id="520" name="Straight Connector 18"/>
              <p:cNvSpPr/>
              <p:nvPr/>
            </p:nvSpPr>
            <p:spPr>
              <a:xfrm>
                <a:off x="1285920" y="4286520"/>
                <a:ext cx="2357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1" name="Straight Arrow Connector 19"/>
              <p:cNvCxnSpPr/>
              <p:nvPr/>
            </p:nvCxnSpPr>
            <p:spPr>
              <a:xfrm flipH="1" flipV="1">
                <a:off x="1643040" y="4286160"/>
                <a:ext cx="64332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22" name="Straight Arrow Connector 20"/>
              <p:cNvCxnSpPr/>
              <p:nvPr/>
            </p:nvCxnSpPr>
            <p:spPr>
              <a:xfrm flipV="1">
                <a:off x="2286000" y="4286160"/>
                <a:ext cx="786240" cy="2160"/>
              </a:xfrm>
              <a:prstGeom prst="straightConnector1">
                <a:avLst/>
              </a:prstGeom>
              <a:ln w="38160">
                <a:solidFill>
                  <a:srgbClr val="c0504d"/>
                </a:solidFill>
                <a:miter/>
                <a:tailEnd len="med" type="arrow" w="med"/>
              </a:ln>
            </p:spPr>
          </p:cxnSp>
        </p:grpSp>
        <mc:AlternateContent>
          <mc:Choice xmlns:a14="http://schemas.microsoft.com/office/drawing/2010/main" Requires="a14">
            <p:sp>
              <p:nvSpPr>
                <p:cNvPr id="523" name="Object 6"/>
                <p:cNvSpPr txBox="1"/>
                <p:nvPr/>
              </p:nvSpPr>
              <p:spPr>
                <a:xfrm>
                  <a:off x="1714320" y="3500280"/>
                  <a:ext cx="57132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F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4" name="Object 7"/>
                <p:cNvSpPr txBox="1"/>
                <p:nvPr/>
              </p:nvSpPr>
              <p:spPr>
                <a:xfrm>
                  <a:off x="2428920" y="3500280"/>
                  <a:ext cx="60624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F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5" name="TextBox 27"/>
          <p:cNvSpPr/>
          <p:nvPr/>
        </p:nvSpPr>
        <p:spPr>
          <a:xfrm>
            <a:off x="714240" y="471492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le jednakog pravca djelovanja,a suprotnoga usmjer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4"/>
          <p:cNvSpPr/>
          <p:nvPr/>
        </p:nvSpPr>
        <p:spPr>
          <a:xfrm>
            <a:off x="533520" y="1828800"/>
            <a:ext cx="7958160" cy="1830960"/>
          </a:xfrm>
          <a:prstGeom prst="rect">
            <a:avLst/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kupan rezultat djelovanja više sila na tijelo naziva 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 označuje se s 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postupak kojim se ona određuje zove 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stavljanje si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Djelovanje dviju sila jednakog usmjer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228600" y="44197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znos rezultante dviju sila is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 orjenta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pravca djelovanja jednak je zbroju iznosa tih s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rjenta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zultante jedna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e usmjerenju tih dviju s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7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2971800" cy="2060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8098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Djelovanje dviju sila suprotnih usmjer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457200" y="44197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znos rezultante dviju sila suprot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 orjenta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ednak je razlici iznosa tih sil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rijentac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nte jedna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rjentaci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eće s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733920" cy="16048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"/>
          <p:cNvPicPr/>
          <p:nvPr/>
        </p:nvPicPr>
        <p:blipFill>
          <a:blip r:embed="rId2"/>
          <a:srcRect l="0" t="5217" r="0" b="0"/>
          <a:stretch/>
        </p:blipFill>
        <p:spPr>
          <a:xfrm>
            <a:off x="3429000" y="2895480"/>
            <a:ext cx="55530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7375e"/>
                </a:solidFill>
                <a:latin typeface="Arial"/>
                <a:ea typeface="Arial"/>
              </a:rPr>
              <a:t>Ravnoteža sil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457200" y="44197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o su dvije sile jednakog iznosa, a suprotnih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rjenta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ne se međusobno poništavaju. Tada kažemo da 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le u ravnotež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7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262400" cy="2666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3209760" cy="8193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-349560" y="1216080"/>
            <a:ext cx="9029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ako se zbrajaju dvije sil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jednake orjentaci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mje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ako se određuje razultanta kada na tijelo djeluju dvije s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uprotnih orijentacija, a istoga smjera? Kojeg je smjera i orjien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ta rezultantna s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gu li na tijelo djelovati dvije sile, a da tijelo ipak mir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a  tijelo djeluju dvije s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=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=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jednakog smjer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rijentacije. Odredi njihovu rezultantu računski i grafički. Uzmi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jedan centimetar na slici odgovara iznosu sile od 1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va dječaka natežu uže suprotno usmjerenim silam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= 120 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= 95 N.  Kolika je rezultanta tih sila?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Koju orjentaciju 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ezultan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 Prikaži grafičk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Slika 1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4:12Z</dcterms:modified>
  <cp:revision>42</cp:revision>
  <dc:subject/>
  <dc:title>Slide 1</dc:title>
</cp:coreProperties>
</file>